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74AD-7F79-4DB2-96FD-A39D11EB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2F14-D026-4A2C-91A7-F9E8273A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BB3D-8E76-4191-A084-E131D230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6820-63D9-4C3A-90C9-6B69B490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D301-11EF-493D-8738-B455C17D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E215-11D6-4405-85A3-88BE5960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00A2-FE8E-420D-9659-59828023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AE04-FEA9-40F5-AD80-C383AAAE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024A-FB91-446E-9985-9FAB12BE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2513-640D-453C-9CF4-5AD4EFFF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AA67-EF92-43CD-B7E8-33DCE3A4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C658-91D2-44D5-BC6A-F50260CC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F249-4183-4349-A492-E7D56CF1B534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01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266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inion"/>
              </a:rPr>
              <a:t>Worksplitproposal TPM E &lt;-&gt; TPM A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Minion"/>
              </a:rPr>
              <a:t>(Variantmanagement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6249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 TPM  B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3040" y="22860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Worksplit per Region and Timezone C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57200" y="6103800"/>
            <a:ext cx="514440" cy="144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564000" y="6110280"/>
            <a:ext cx="514440" cy="1382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124000" y="6110280"/>
            <a:ext cx="514440" cy="138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86320" y="6004080"/>
            <a:ext cx="117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ost reason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11840" y="6064200"/>
            <a:ext cx="90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not poss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86960" y="6004080"/>
            <a:ext cx="66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oss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6883200" cy="39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03040" y="22860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Possible Workspl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765000"/>
            <a:ext cx="39196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lternative 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PM Asia takes over additional responsibility for E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dditional necessary Resources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PM Europe keeps responsibilty for WE and LA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cessary Resources: 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dvantages: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- more equal workspl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isadvantag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- max 5 hours common working h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- TMO, Orange, VF Consortia are present in WE </a:t>
            </a:r>
            <a:br>
              <a:rPr sz="1400"/>
            </a:b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  and EE =&gt; two different contacts (TPM Asia </a:t>
            </a:r>
            <a:br>
              <a:rPr sz="1400"/>
            </a:b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  and TPM Europe) for one country for the same </a:t>
            </a:r>
            <a:br>
              <a:rPr sz="1400"/>
            </a:b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  product: i. .e. 1 x Retail = EE, TMO = W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emarks: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OMs( Regional Operation Managers Sales) and Order Managers for EE are located in Muni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Employ Staff, Training and Know How Transfer needs some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56000" y="765000"/>
            <a:ext cx="39196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lternative I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Leave it as it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dvantages: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cesses and skills are in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rfaces are def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unty specic requirements can be easily  </a:t>
            </a:r>
            <a:br>
              <a:rPr sz="1400"/>
            </a:b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  transfered to consortia 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p to 10 common working h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isadvantag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- Unequal workload between TPM Europe and A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emarks: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OMs( Regional Operation Managers Sales) and Order Managers for EE are located in Muni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052640"/>
            <a:ext cx="814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84720" y="692280"/>
            <a:ext cx="0" cy="53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2680" y="5932440"/>
            <a:ext cx="83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mark: These Alternatives are not relevant for GPM. GPM- Topics are Product rel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03040" y="22860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Common Working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052640"/>
            <a:ext cx="4076640" cy="1936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3357720"/>
            <a:ext cx="4076640" cy="1417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Holger Asmussen</cp:lastModifiedBy>
  <dcterms:modified xsi:type="dcterms:W3CDTF">2006-03-28T12:46:58Z</dcterms:modified>
  <cp:revision>137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59298984</vt:r8>
  </property>
  <property fmtid="{D5CDD505-2E9C-101B-9397-08002B2CF9AE}" pid="3" name="_AuthorEmail">
    <vt:lpwstr>Brigitte.Flierl@BenQ.com</vt:lpwstr>
  </property>
  <property fmtid="{D5CDD505-2E9C-101B-9397-08002B2CF9AE}" pid="4" name="_AuthorEmailDisplayName">
    <vt:lpwstr>Brigitte Flierl</vt:lpwstr>
  </property>
  <property fmtid="{D5CDD505-2E9C-101B-9397-08002B2CF9AE}" pid="5" name="_EmailSubject">
    <vt:lpwstr>Folien/Infos zu Variantenaufteilung</vt:lpwstr>
  </property>
  <property fmtid="{D5CDD505-2E9C-101B-9397-08002B2CF9AE}" pid="6" name="_ReviewingToolsShownOnce">
    <vt:lpwstr/>
  </property>
</Properties>
</file>